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ct" ContentType="image/x-pict"/>
  <Override PartName="/ppt/media/image13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gif" ContentType="image/gif"/>
  <Override PartName="/ppt/media/image7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12.gif" ContentType="image/gif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1FC-B0F3-4F4C-BDBF-0BD7D48A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D5D-E932-4F92-8ABD-B3742E94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DED-7CA1-4475-90B5-21F3645E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761-9F70-4389-B0B2-FDD3ADFE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C52F-8A5D-4B3F-8B6F-DEAF18A4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B094-490A-46CC-9EA2-2CFA6287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50D1-9A30-4F88-9D51-50B87AE7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1825-9D5A-4EAF-934F-2FB014F3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4E21-16AA-4B09-8261-23DA807D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CB6A-C6D7-45F7-AA0C-A26EF6D2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A6F0-BFB6-4246-A65B-0D3C40DC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D06-F3D1-4456-B43D-51986FBD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616E-20E6-4D0A-AC72-1493C1E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AFD3-4E0D-4ACB-A842-E204DE47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207E-F2F3-434E-950D-81383E04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D833-D47A-404D-BAB6-3C5718CE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66B4-41B6-4A42-BFDB-73B45B88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A75A-E20B-488B-9052-87B3FD1B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2887-3CC1-412E-9BFD-3709DAB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5046-70D5-4C09-ABA4-A45CE2A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0A77-445D-4B36-8C59-FB3C94DB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E9C5-F830-4861-8D68-F3021B32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110-96D2-4273-BE19-ED21E089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A10C-DF2C-467C-B27C-DA79626C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34733-02FC-444E-8612-D547B61D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106D-4541-4021-ABDB-F3277B92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576E-E0AD-4E4E-9B8E-7BC360C1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8DB1-FD4C-46EF-B290-571CA9F4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FC4E-ADD9-4F1C-AA86-F44A7AA9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8DD9-7203-47DC-BEB0-A06E6EA0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D917-AD12-4D03-8F2F-85D054B2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282DF-BE19-4A60-BC7E-D4A64A5A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B3F4-2DE9-4F72-975B-EE00C2D3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1F8-2F72-4EC9-8E7B-3871E33B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6872C-EB7A-4804-8D75-3804F46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BC6C-4CCA-41CC-84C7-A94094E0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21E95-F269-4BA8-A14F-6B5565F8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F76EF-3324-4101-8A48-C82CC5C1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E658-C1E0-469C-9B00-AFCDACA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DA09-22AC-406E-88C5-2854AF5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493E-05A0-4ADB-A90B-248449F6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08C7-86B2-4876-BCDC-A9A6BDB4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5D6F-90DD-4866-B13B-F08C4A9A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FF8D-CC2F-44C2-92D0-DD9744A3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61B-0921-489D-B6F9-DDD52A68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AEDA-2C5F-4C8D-855A-03B705C0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FAEE-C824-41E7-B902-F7311B18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821F-95DD-4C54-BDC6-CE14CC26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22CDC-53E4-4679-A9D0-0AF60F4C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4DD70-B2E1-41B9-B4BB-9B130E0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08D2-B8C3-46FF-A450-87B6AE1B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4E6C1-19AA-4544-8BA7-3800A6BE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475F3-26D6-4764-BADD-429FF04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03A29-12BF-49DA-AE59-F8B32692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0FCD2-58F3-4105-91E7-83FBCE13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671-7729-4C80-A339-A46E548A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C61E-6050-4FAD-90DB-B53FAADC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FE482-2C9A-44D5-88F7-FDB1BA69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214D9-4B03-48C3-9903-D7409770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220D9-B592-45B5-8A90-B3E56994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9A431-FB36-4C65-B63E-7D1A6E7F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92679-FF05-436D-BE92-DFE18F10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FC1A1-4301-436B-BAB7-6DD0F96A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E9F3B-ED80-434D-9F6A-EFD63C8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D375A-9676-46AF-8986-E56D62FB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F1414-52BE-4BFA-A8ED-6B7E95F2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7A6-C354-4AEC-8C0E-C2204B7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69EBC-54F8-4FDC-9D77-209F65AF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6314A-2CC7-44A7-B9FE-936C899A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499C5-B7D7-48F8-AECD-05269362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4F0-5FE3-4266-B28B-FD082E1F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7B0-A287-45AD-AF63-BFA1D09B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7A7-B8FE-4299-837A-7E04B93EE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62AC-7BFE-497F-88FA-34078032E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E10B-8F27-467B-AFC4-4F26CF527C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22C0-EA6C-4CE1-8181-1808223160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8BA-7D03-4C68-AA92-9709B09E9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B131-E780-4A50-9E41-30B7C1B1B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aa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8080" y="838080"/>
            <a:ext cx="71629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ases and the Atmosphe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76520" y="2486160"/>
            <a:ext cx="563868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3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315e"/>
                </a:solidFill>
                <a:latin typeface="Arial"/>
              </a:rPr>
              <a:t>Volume- amount of space a gas takes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3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315e"/>
                </a:solidFill>
                <a:latin typeface="Arial"/>
              </a:rPr>
              <a:t>Temperature- average kinetic energy of the gas partic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3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315e"/>
                </a:solidFill>
                <a:latin typeface="Arial"/>
              </a:rPr>
              <a:t>Pressure- amount of force gas particles exert on the sides of a contain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3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315e"/>
                </a:solidFill>
                <a:latin typeface="Arial"/>
              </a:rPr>
              <a:t>Concentration- amount of gas particles in a given spa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057400" y="38088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 Conditions of a Ga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04920" y="3049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086600" y="974520"/>
            <a:ext cx="1295640" cy="29959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at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3" name="Picture 13" descr="j0232896"/>
          <p:cNvPicPr/>
          <p:nvPr/>
        </p:nvPicPr>
        <p:blipFill>
          <a:blip r:embed="rId1"/>
          <a:stretch/>
        </p:blipFill>
        <p:spPr>
          <a:xfrm>
            <a:off x="6324480" y="4343400"/>
            <a:ext cx="2210040" cy="2514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533520" y="1295280"/>
            <a:ext cx="4216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mount of force </a:t>
            </a:r>
            <a:endParaRPr b="0" lang="en-US" sz="2400" spc="1" strike="noStrike">
              <a:ln w="0">
                <a:noFill/>
              </a:ln>
              <a:solidFill>
                <a:srgbClr val="ffff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erted in a certain area</a:t>
            </a:r>
            <a:endParaRPr b="0" lang="en-US" sz="2400" spc="1" strike="noStrike">
              <a:ln w="0">
                <a:noFill/>
              </a:ln>
              <a:solidFill>
                <a:srgbClr val="ffff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657600" y="3276720"/>
            <a:ext cx="32814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e atmospher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erts pressure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(gases have mass.)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5"/>
          <p:cNvSpPr txBox="1"/>
          <p:nvPr/>
        </p:nvSpPr>
        <p:spPr>
          <a:xfrm>
            <a:off x="380880" y="2286000"/>
            <a:ext cx="6791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 atm or atmosphere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1905120" y="3581280"/>
            <a:ext cx="68054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760 mm Hg (mercury)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4267080" y="59436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bc577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760 torr </a:t>
            </a:r>
            <a:endParaRPr b="0" lang="en-US" sz="2400" spc="1" strike="noStrike">
              <a:ln w="0">
                <a:noFill/>
              </a:ln>
              <a:solidFill>
                <a:srgbClr val="ebc577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9" name="WordArt 8"/>
          <p:cNvSpPr txBox="1"/>
          <p:nvPr/>
        </p:nvSpPr>
        <p:spPr>
          <a:xfrm>
            <a:off x="228600" y="4876920"/>
            <a:ext cx="5638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01.325 kiloPascals</a:t>
            </a:r>
            <a:endParaRPr b="0" lang="en-US" sz="2400" spc="1" strike="noStrike">
              <a:ln w="0">
                <a:noFill/>
              </a:ln>
              <a:solidFill>
                <a:srgbClr val="ffcc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609480" y="38088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nits of Pressure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276720" y="2438280"/>
            <a:ext cx="25700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ff0000"/>
                  </a:solidFill>
                  <a:prstDash val="sysDot"/>
                  <a:miter/>
                </a:ln>
                <a:solidFill>
                  <a:srgbClr val="0000ff"/>
                </a:solidFill>
                <a:latin typeface="Arial Black"/>
              </a:rPr>
              <a:t>STP</a:t>
            </a:r>
            <a:endParaRPr b="0" lang="en-US" sz="6000" spc="1" strike="noStrike">
              <a:ln w="25560">
                <a:solidFill>
                  <a:srgbClr val="ff0000"/>
                </a:solidFill>
                <a:prstDash val="sysDot"/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981080"/>
            <a:ext cx="2260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0404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Stand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40404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8120" y="160020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0404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Tempera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40404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77120" y="2057400"/>
            <a:ext cx="2260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0404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40404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9810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0000"/>
                </a:solidFill>
                <a:latin typeface="Arial"/>
              </a:rPr>
              <a:t>0ºC</a:t>
            </a:r>
            <a:endParaRPr b="0" lang="en-US" sz="6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24480" y="3733920"/>
            <a:ext cx="2286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0000"/>
                </a:solidFill>
                <a:latin typeface="Arial"/>
              </a:rPr>
              <a:t>1 atm</a:t>
            </a:r>
            <a:endParaRPr b="0" lang="en-US" sz="6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 rot="5400000">
            <a:off x="-2781360" y="3085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sure and Volu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47920" y="0"/>
            <a:ext cx="751824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s pressure increases, volume decrease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. Piston in car eng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895480" y="380880"/>
            <a:ext cx="348156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375e1"/>
                </a:solidFill>
                <a:latin typeface="Arial Black"/>
              </a:rPr>
              <a:t>Boyle's La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375e1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1752480"/>
            <a:ext cx="3276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600" y="2590920"/>
            <a:ext cx="8686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.  A sample of carbon dioxide occupies 638 mL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t 0.893 atm.  What volume will it occupy if the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ressure is changed to 1.25 atm?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4800600"/>
            <a:ext cx="868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d315e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ressure is high at a deep-sea station under the Pacific.  </a:t>
            </a:r>
            <a:endParaRPr b="0" lang="en-US" sz="2400" spc="1" strike="noStrike">
              <a:ln w="0">
                <a:noFill/>
              </a:ln>
              <a:solidFill>
                <a:srgbClr val="2d315e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d315e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many liters of gas at STP must be compressed to fill </a:t>
            </a:r>
            <a:endParaRPr b="0" lang="en-US" sz="2400" spc="1" strike="noStrike">
              <a:ln w="0">
                <a:noFill/>
              </a:ln>
              <a:solidFill>
                <a:srgbClr val="2d315e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d315e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e station with 2.00 x 10^7 L of gas at 20.0 atm?</a:t>
            </a:r>
            <a:endParaRPr b="0" lang="en-US" sz="2400" spc="1" strike="noStrike">
              <a:ln w="0">
                <a:noFill/>
              </a:ln>
              <a:solidFill>
                <a:srgbClr val="2d315e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Relationship:  Volume and Temperatur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90560" y="266652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 temperature increases, volume increase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.  Balloon in hot weath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209680" y="304920"/>
            <a:ext cx="396108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4bff"/>
                </a:solidFill>
                <a:latin typeface="Arial Black"/>
              </a:rPr>
              <a:t>Charles's La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a4bff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1523880"/>
            <a:ext cx="38098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 = V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4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2743200"/>
            <a:ext cx="8610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sample of carbon dioxide has a volume of 750. mL 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t 12 C.  At what temp will the gas occupy 1.0 L of space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5410080"/>
            <a:ext cx="90676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child gets a 2.30 L balloon at a temp of 311 K.  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at will the volume of the balloon be in her house at 295 K?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1ff"/>
            </a:gs>
            <a:gs pos="100000">
              <a:srgbClr val="4e56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28600" y="304920"/>
            <a:ext cx="501660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Relationship between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pressure and temperature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81160" y="2209680"/>
            <a:ext cx="6781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287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 pressure increases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95280" y="5943600"/>
            <a:ext cx="624852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emperature incre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1066680" y="3200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5334120" y="2971800"/>
            <a:ext cx="1623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4bff"/>
            </a:gs>
            <a:gs pos="100000">
              <a:srgbClr val="a4d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 rot="20181000">
            <a:off x="0" y="837720"/>
            <a:ext cx="4495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Gay-Lussac's La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1523880"/>
            <a:ext cx="38098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 = P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4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0880" y="2590920"/>
            <a:ext cx="8382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prstDash val="sysDot"/>
                  <a:miter/>
                </a:ln>
                <a:solidFill>
                  <a:srgbClr val="f20f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sample of nitrogen at 27 C and 0.625 atm increases in</a:t>
            </a:r>
            <a:endParaRPr b="0" lang="en-US" sz="2400" spc="1" strike="noStrike">
              <a:ln w="6480">
                <a:solidFill>
                  <a:srgbClr val="000000"/>
                </a:solidFill>
                <a:prstDash val="sysDot"/>
                <a:miter/>
              </a:ln>
              <a:solidFill>
                <a:srgbClr val="f20f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prstDash val="sysDot"/>
                  <a:miter/>
                </a:ln>
                <a:solidFill>
                  <a:srgbClr val="f20f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ressure to 1.125 atm.  What is the new temperature?</a:t>
            </a:r>
            <a:endParaRPr b="0" lang="en-US" sz="2400" spc="1" strike="noStrike">
              <a:ln w="6480">
                <a:solidFill>
                  <a:srgbClr val="000000"/>
                </a:solidFill>
                <a:prstDash val="sysDot"/>
                <a:miter/>
              </a:ln>
              <a:solidFill>
                <a:srgbClr val="f20f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2280" y="5638680"/>
            <a:ext cx="883944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t 84 C a gas has a pressure of 725.5 mm.  At what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emp would the pressure be 778.3 mm?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380880"/>
            <a:ext cx="7696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f67ff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Earth's atmsophere is made of </a:t>
            </a:r>
            <a:endParaRPr b="0" lang="en-US" sz="2400" spc="1" strike="noStrike">
              <a:ln w="9360">
                <a:solidFill>
                  <a:srgbClr val="af67ff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f67ff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many gases:</a:t>
            </a:r>
            <a:endParaRPr b="0" lang="en-US" sz="2400" spc="1" strike="noStrike">
              <a:ln w="9360">
                <a:solidFill>
                  <a:srgbClr val="af67ff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90720" y="2133720"/>
            <a:ext cx="29718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74 % Nitro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828800" y="2971800"/>
            <a:ext cx="26924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3 % Oxy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666880" y="3809880"/>
            <a:ext cx="3505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 % Water vap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038480" y="4572000"/>
            <a:ext cx="3505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 % Other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0574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28195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373392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5334120"/>
            <a:ext cx="4496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Ar, He, H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171880" y="6019920"/>
            <a:ext cx="480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mbined Gas La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33480" y="304920"/>
            <a:ext cx="727704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ombines Boyle's Law, Charles's Law, </a:t>
            </a:r>
            <a:endParaRPr b="0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d Gay-Lussac's Law</a:t>
            </a:r>
            <a:endParaRPr b="0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86080" y="1523880"/>
            <a:ext cx="61722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P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V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T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 = P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V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T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endParaRPr b="0" lang="en-US" sz="6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86080" y="228600"/>
            <a:ext cx="61722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P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V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T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 = P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V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T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endParaRPr b="0" lang="en-US" sz="6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397160"/>
            <a:ext cx="925848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weather balloon at Earth's surface has a volume 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f 4.00 L at 304 K and 755 mm.  If the balloon 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s released and the volume reaches 4.08 L at 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728 mm, what is the temp?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e56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380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Dalton’s Law of Partial Press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Total pressure in a system = sum of individual pressu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Equation:  P</a:t>
            </a:r>
            <a:r>
              <a:rPr b="0" lang="en-US" sz="3200" spc="-1" strike="noStrike" baseline="-25000">
                <a:solidFill>
                  <a:srgbClr val="0c12d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0c12d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 + P</a:t>
            </a:r>
            <a:r>
              <a:rPr b="0" lang="en-US" sz="3200" spc="-1" strike="noStrike" baseline="-25000">
                <a:solidFill>
                  <a:srgbClr val="0c12d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 + P</a:t>
            </a:r>
            <a:r>
              <a:rPr b="0" lang="en-US" sz="3200" spc="-1" strike="noStrike" baseline="-25000">
                <a:solidFill>
                  <a:srgbClr val="0c12d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Collecting a gas over wa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Picture 3" descr="gas over water.jpg"/>
          <p:cNvPicPr/>
          <p:nvPr/>
        </p:nvPicPr>
        <p:blipFill>
          <a:blip r:embed="rId1"/>
          <a:stretch/>
        </p:blipFill>
        <p:spPr>
          <a:xfrm>
            <a:off x="5230800" y="3657600"/>
            <a:ext cx="34560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474920" y="2135160"/>
            <a:ext cx="6197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is a solution.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s means that air has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same composition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verywhere in the world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380880"/>
            <a:ext cx="883908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do the gases in the atmosphere behave?  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e need to look at the gases particles that make them up.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1600200"/>
            <a:ext cx="3657600" cy="6094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etic Molecular The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666880"/>
            <a:ext cx="3048120" cy="990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ter is mad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particl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2438280"/>
            <a:ext cx="3733920" cy="10670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particles move 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, random,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ight-line mo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038480"/>
            <a:ext cx="3352680" cy="10670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All collisions a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ly elastic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 loss of energy.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038480"/>
            <a:ext cx="3200400" cy="990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There are no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active no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ulsive forc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5410080"/>
            <a:ext cx="5867280" cy="11430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The kinetic energy of the particl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found using the equat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 = 1/2 mv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8" idx="0"/>
            <a:endCxn id="257" idx="2"/>
          </p:cNvCxnSpPr>
          <p:nvPr/>
        </p:nvCxnSpPr>
        <p:spPr>
          <a:xfrm flipV="1">
            <a:off x="1523520" y="2209320"/>
            <a:ext cx="2972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0" idx="0"/>
            <a:endCxn id="257" idx="2"/>
          </p:cNvCxnSpPr>
          <p:nvPr/>
        </p:nvCxnSpPr>
        <p:spPr>
          <a:xfrm flipV="1">
            <a:off x="2362320" y="2209320"/>
            <a:ext cx="213408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"/>
          <p:cNvCxnSpPr>
            <a:stCxn id="259" idx="0"/>
            <a:endCxn id="257" idx="2"/>
          </p:cNvCxnSpPr>
          <p:nvPr/>
        </p:nvCxnSpPr>
        <p:spPr>
          <a:xfrm flipH="1" flipV="1">
            <a:off x="4495320" y="2208960"/>
            <a:ext cx="2782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"/>
          <p:cNvCxnSpPr>
            <a:stCxn id="261" idx="0"/>
            <a:endCxn id="257" idx="2"/>
          </p:cNvCxnSpPr>
          <p:nvPr/>
        </p:nvCxnSpPr>
        <p:spPr>
          <a:xfrm flipH="1" flipV="1">
            <a:off x="4494960" y="2209320"/>
            <a:ext cx="175356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57" idx="2"/>
            <a:endCxn id="262" idx="0"/>
          </p:cNvCxnSpPr>
          <p:nvPr/>
        </p:nvCxnSpPr>
        <p:spPr>
          <a:xfrm>
            <a:off x="4495680" y="2209680"/>
            <a:ext cx="11520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28600" y="228600"/>
            <a:ext cx="492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roperties of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1219320"/>
            <a:ext cx="92203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xpansion- the ability to get bigger.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ases can expand to thousand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f times their original volume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245120" y="2922480"/>
            <a:ext cx="1557360" cy="2411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8920" y="1219320"/>
            <a:ext cx="8966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Fluidity- ability to flow.  Gases flow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easily and are the best fluid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828800" y="4038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28600" y="228600"/>
            <a:ext cx="492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roperties of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68280" y="1219320"/>
            <a:ext cx="840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hape- indefinite.  Gases take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shape of their container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743200"/>
            <a:ext cx="92203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Volume- indefinite. Amount of spac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a gas takes up.  Gases fill up th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volume of their containers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14880" y="4762440"/>
            <a:ext cx="2781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28600" y="228600"/>
            <a:ext cx="492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roperties of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9320" y="1066680"/>
            <a:ext cx="90946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ensity- amount of mass in 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ertain volume.  Gases have ver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ow densities. (Water- 1.00 g/mL;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xygen- 0.001 g/mL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62120" y="3970440"/>
            <a:ext cx="2514600" cy="2003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1954080" cy="1954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76320" y="990720"/>
            <a:ext cx="90676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Compressibility- ability to be squeeze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together.  Gases cannot compress a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much as they can expand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28600" y="228600"/>
            <a:ext cx="492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roperties of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1219320"/>
            <a:ext cx="8076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iffusion- spreading out of a g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 evenly mix with another g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3733920"/>
            <a:ext cx="868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Effusion- spreading out through 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mall opening into another contai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2d6"/>
            </a:gs>
            <a:gs pos="100000">
              <a:srgbClr val="2d31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905120" y="2514600"/>
            <a:ext cx="44193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al vs. Ide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71800" y="3886200"/>
            <a:ext cx="572760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deal gases follow all five part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f the kinetic theory.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228600" y="380880"/>
            <a:ext cx="923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Real gases- have attractive and repulsive force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                </a:t>
            </a: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-lose energy in collisions due to friction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                </a:t>
            </a: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-move in curve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143000" y="5943600"/>
            <a:ext cx="62866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e assume all our gases are ideal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10:30Z</dcterms:created>
  <dc:creator>PA Department of Education</dc:creator>
  <dc:description/>
  <dc:language>en-US</dc:language>
  <cp:lastModifiedBy>PA Department of Education</cp:lastModifiedBy>
  <dcterms:modified xsi:type="dcterms:W3CDTF">2009-03-24T19:05:22Z</dcterms:modified>
  <cp:revision>36</cp:revision>
  <dc:subject/>
  <dc:title>PowerPoint Presentation</dc:title>
</cp:coreProperties>
</file>